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1FA-5A7E-4A02-A423-0CF409E3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7E6-E6B6-4375-AF06-323A44C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D44-C423-4F5C-BA44-9A1B9AC0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833-3EF7-4EE3-95DD-50BA1C23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1E55-557D-44D2-A423-D8F75754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0481-ECE4-48C0-A10D-9B593397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A386-8E54-4B66-94AC-67DC67D0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CE64-7A4A-45BB-A285-099D5A3B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D32A-1D05-45A2-976B-4363853A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A567-7A0B-4041-BCEB-536CA47D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7E54-BE24-46B6-9BD9-E4E79F48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1FA-FB2E-4D00-AA1E-A8C5B6A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DDD8-0A6F-4C39-94B5-C3F1463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4B5D-999D-4234-A6A3-2DA4B083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7507-18E3-44C6-8D0D-02787E22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6F22-F67E-4A0B-997B-919AB1F3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AE0C-54D9-4794-8C60-5CE6B7BC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575-FCA1-457A-A18C-F2E01F5A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376-7919-4B43-AF0A-44D41DF5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81E-554D-4471-9070-534BD09E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6D7-4F88-456C-A549-BE0DF19D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FAA-4B5C-4FB2-B19E-920FA90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7F1-C941-4A9A-83EB-F16263D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C53-AB5A-4DD1-8CD8-51DBF981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097C-8309-4DEA-B16F-DC71382FE6D2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3141-FE7C-4AD2-B9D8-A4BED568B1BA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一 某大醫學中心醫療人員推荐的醫療典範之特徵與範例 – 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臨床能力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79280" y="1268280"/>
          <a:ext cx="8856720" cy="4969080"/>
        </p:xfrm>
        <a:graphic>
          <a:graphicData uri="http://schemas.openxmlformats.org/drawingml/2006/table">
            <a:tbl>
              <a:tblPr/>
              <a:tblGrid>
                <a:gridCol w="432000"/>
                <a:gridCol w="1873080"/>
                <a:gridCol w="4824360"/>
                <a:gridCol w="1727280"/>
              </a:tblGrid>
              <a:tr h="55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nical compet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臨床能力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認真負責，能適時矯正學妹的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誤，使病人在安全的照護環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中，得到最好的照顧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能使用多種不同教學方法，引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學生注意力及討論的技巧，並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予學生回饋與獨立練習，增進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學與學習的效果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教授基本原則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正確、簡短、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楚）示範怎麼做，並正向回饋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4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服務態度優良、與家屬醫病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係良好，並共同為照護患者，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起規劃照護流程，是患者及家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讚美表揚之對象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某醫師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每日查房熱心教學，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Meetin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Teach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清楚明瞭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某醫師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每日在迴診時，教授如何問診，並親自示範給予回饋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二 某大醫學中心醫療人員推荐的醫療典範之特徵與範例 – 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教學技巧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(1/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24000" y="907920"/>
          <a:ext cx="8640720" cy="5822640"/>
        </p:xfrm>
        <a:graphic>
          <a:graphicData uri="http://schemas.openxmlformats.org/drawingml/2006/table">
            <a:tbl>
              <a:tblPr/>
              <a:tblGrid>
                <a:gridCol w="385560"/>
                <a:gridCol w="1486080"/>
                <a:gridCol w="5113080"/>
                <a:gridCol w="1656000"/>
              </a:tblGrid>
              <a:tr h="58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aching 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學技巧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用心、誠心、同理心之教學態度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身教言教一致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-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身體力行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樂於從事教學工作，具積極正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的教學態度與教學熱忱，並能激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他人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擬定良好教學計劃，並落實施行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4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教學內容能根據學員的需求、學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不足之處、臨床工作必備技能等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件來做設計，並依照學員學習狀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做教學進度與內容上的調整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5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熟悉教學法，熱情、支持學生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;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床導向教學，與學生同在。熱心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學生討論，以引導式教學，協助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過角色的轉換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某護理長熱心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與學生討論，引導式教學，協助渡過角色轉換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某護理長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在實務教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中能以身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則，如照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癌末患者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能用心觀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其身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、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心理靈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需求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二 某大醫學中心醫療人員推荐的醫療典範之特徵與範例 – 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教學技巧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(2/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24000" y="981000"/>
          <a:ext cx="8569080" cy="5616720"/>
        </p:xfrm>
        <a:graphic>
          <a:graphicData uri="http://schemas.openxmlformats.org/drawingml/2006/table">
            <a:tbl>
              <a:tblPr/>
              <a:tblGrid>
                <a:gridCol w="431640"/>
                <a:gridCol w="1441440"/>
                <a:gridCol w="5024520"/>
                <a:gridCol w="1671480"/>
              </a:tblGrid>
              <a:tr h="56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aching 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學技巧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6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具備專業技能之勝任、人際關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頗佳、熱忱之教學能力等特質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7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臨床上，學生遇到問題時，能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切的指導與教學，或提供其他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習管道，來增長學習效率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8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以學生為中心，在教學前能設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教學目標，並能設計活潑且能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入淺出的教學技巧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9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引導學生獨立思考，因材施教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並給予合適的空間給學生發揮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0.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上課不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缺課或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遲到，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講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課幽默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以案例進入主題引導學生思考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某醫師在照護患者過程中能協助照護，並減輕其痛苦，與家屬醫病關係良好，共同為照護患者一起規劃照護流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4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某醫師上課，能以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例導入主題，引導學生思考，增長學習效率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三 某大醫學中心醫療人員推荐的醫療典範之特徵與範例 – 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個人特質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981000"/>
          <a:ext cx="8785440" cy="5616720"/>
        </p:xfrm>
        <a:graphic>
          <a:graphicData uri="http://schemas.openxmlformats.org/drawingml/2006/table">
            <a:tbl>
              <a:tblPr/>
              <a:tblGrid>
                <a:gridCol w="289080"/>
                <a:gridCol w="1439640"/>
                <a:gridCol w="5616720"/>
                <a:gridCol w="1440000"/>
              </a:tblGrid>
              <a:tr h="56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qual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個人特質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誨人不倦、不斷吸取新知識，並修正自身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念，不是只出一張嘴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2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身體力行，知行合一。做人圓融，處事謹慎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循序漸進，敦敦教誨，學識淵博，虛懷如谷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4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主動積極、樂觀進取、笑容可掬、熱心教學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5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穿著乾淨、整齊、有精神、有活力，鼓勵學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表達工作上的感受困難。良好的溝通技巧，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掘學員潛能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6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良好的溝通技巧，不背後批評、自信、耐心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細心、不厭其煩。時常與學生討論，能指出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員的缺點，並提出改進方法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7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關心並協助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解決學員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在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臨床及生活上的問題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8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憐憫、同情與關懷，有愛及智慧，能了解學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需要，樂意參與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9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從關心、愛心，責任心上尋求成就感與價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感，也是得到「教學相長」成就的典範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10.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隨時隨地關心學員是否了解或指導如何尋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解答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會一起討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學習的過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及計畫未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的學習方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提供回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做為日後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參考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學姊們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設身處地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為我們著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在我們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懂時都很願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意的教導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3963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四 某大醫學中心醫療人員提出的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壞榜樣之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特徵與範例 – 臨床能力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24000" y="1844640"/>
          <a:ext cx="8569080" cy="4248360"/>
        </p:xfrm>
        <a:graphic>
          <a:graphicData uri="http://schemas.openxmlformats.org/drawingml/2006/table">
            <a:tbl>
              <a:tblPr/>
              <a:tblGrid>
                <a:gridCol w="431640"/>
                <a:gridCol w="2160720"/>
                <a:gridCol w="4535280"/>
                <a:gridCol w="1441440"/>
              </a:tblGrid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nical compet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1.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脾氣暴躁，表情釋放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不屑或沒耐心，或會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學妹，會讓學妹感到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怕及不敢去操作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不能以身作則，紙上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兵、光說不練，沒有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際參與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沒有熱忱帶人，兩套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準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學自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自己的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求，完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無了解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員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臨床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護之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求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252720" y="0"/>
            <a:ext cx="93963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五 某大醫學中心醫療人員提出的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壞榜樣之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特徵與範例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– 教學技巧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24000" y="1052640"/>
          <a:ext cx="8569080" cy="5545080"/>
        </p:xfrm>
        <a:graphic>
          <a:graphicData uri="http://schemas.openxmlformats.org/drawingml/2006/table">
            <a:tbl>
              <a:tblPr/>
              <a:tblGrid>
                <a:gridCol w="287280"/>
                <a:gridCol w="1584360"/>
                <a:gridCol w="4897440"/>
                <a:gridCol w="1800000"/>
              </a:tblGrid>
              <a:tr h="55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aching 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學內容過於主觀，未根據學員的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求、學員不足之處、臨床工作必備技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等條件來做設計，甚至灌輸學員不恰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的觀念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情緒化，不願意深入了解學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員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的學習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題協助解決，只會責罵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教師本身未具教學素養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態度、專業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對於教學工作漫不經心、固執，無法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行雙向溝通，未進行專業持續教育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4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照本宣科，按照課本一字一字唸，讓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習者不明白重點在哪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看不出學習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助益為何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口條不清楚，嗯啊老半天，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到重點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5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授課資料不自己整理，只會拿取別人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整好的資料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6.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授課內容與學習目標不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符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讓學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員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白重點在哪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看不出學習後的助益為何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教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內容照本宣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，沒有思考及引導學生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教學只是自顧自的講課，講完就下課，和學員無互動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某護理長教學依照 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POWER POINT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讀字，未注意學生反應，與學生無互動，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如大學時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代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的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藥理學，學員們睡成一片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39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附件六 某大醫學中心醫療人員提出的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壞榜樣之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特徵與範例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– 個人特質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50920" y="765000"/>
          <a:ext cx="8640720" cy="5904000"/>
        </p:xfrm>
        <a:graphic>
          <a:graphicData uri="http://schemas.openxmlformats.org/drawingml/2006/table">
            <a:tbl>
              <a:tblPr/>
              <a:tblGrid>
                <a:gridCol w="353880"/>
                <a:gridCol w="1411200"/>
                <a:gridCol w="5148360"/>
                <a:gridCol w="1727280"/>
              </a:tblGrid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qual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願意感同身受新人學習心境及處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境，言語霸凌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尊重學生價值、當面羞辱學生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求名求利：只顧自己的利益，只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自己的成就。沽名釣譽，仗勢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人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;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利用自己的權力，要脅別人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4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憑經驗教學，以老賣老。情緒化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EQ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不好、單方向教學、反應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緒、自我中心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5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態度不友善、口氣差、怨聲載道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做事散慢、缺乏向心力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6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冷淡回應不以身作則，當場指責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誤。不耐煩、沒耐心、愛比較新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人員之間的優缺點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7.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說一套做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另外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一套，知法又犯法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範例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Tahoma"/>
                          <a:ea typeface="標楷體"/>
                        </a:rPr>
                        <a:t>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言語傷害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: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我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過的鹽比你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過的飯多、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何時要提離職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我不是教過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了嗎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護理長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學員大聲指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、教了好幾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都不會，說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一半隨即離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放學員一人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現場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某酒駕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長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5c6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2T12:45:56Z</dcterms:created>
  <dc:creator>user</dc:creator>
  <dc:description/>
  <dc:language>en-US</dc:language>
  <cp:lastModifiedBy>Teresa</cp:lastModifiedBy>
  <dcterms:modified xsi:type="dcterms:W3CDTF">2013-07-18T05:28:01Z</dcterms:modified>
  <cp:revision>3</cp:revision>
  <dc:subject/>
  <dc:title> 彰化基督教醫院同僚認同的學習典範特徵(1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